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20BFB-828C-4172-BEA3-5BEF465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AFA04-5CF8-40C4-A1D2-1107423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AA827-ED86-4818-897B-14B9E02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D090B-4110-4125-8CB8-A54BBBE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7F796-399C-4744-BC17-65548BE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0D75E-A557-426B-A077-55B9F40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8DFD9A-1071-4F50-9A74-BF46331C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A55A35-01FF-49CE-A3C0-76824D3E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F6A6E-282C-4CB2-83DD-969626E8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5504A-3B05-4EA0-A8CF-AB2C71E0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293A3-79EE-444C-8103-3F42C7A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C0FB8-324E-44CE-88E3-5CF63234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87CB0A-C310-447F-AF59-89B566FE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2BD572-7251-4660-9297-C85F6C6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F6E01-A4E5-4769-9761-25F2DB5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B6A21-7825-472F-87CA-59BEBD69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7CDE8D-8CDC-42FA-9FBD-87A2EF94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6F5F1-5FF1-42B2-935C-2597924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1EB722-F34A-4BBC-907B-DA3FB2C1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8E2849-51C9-447E-9ED5-F201C2A6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3DA96F-BA4F-46A1-8DC2-934B6397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55D2E-AD88-46F1-B5B9-0EB7ECD0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D0536-91C1-44B9-9291-A23AC6D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73175-9380-4DBF-8291-155A280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5DEBF-032B-4954-80DB-F623648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391DF-D92D-4DD8-8D44-15860E31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35E52-B0B0-4DB5-ABBF-7B00060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B0561-2E57-4260-A21C-0736782B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F9AC8-9F67-4F67-8AD5-9CB7C75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1CD07-9222-4A77-AA31-91ECA37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98E6E-1B65-4A69-BAD6-A4FE7EF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40740-839C-4BE7-86AA-8EFEA618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9D08F-4A31-4AC7-B8FD-30F4888F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176C2-C9EE-4645-A946-B44C02DC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138F-5E15-46E8-9C49-DD6CFDD0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654BC-FE40-4B88-B238-1FA4313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2885-DE8C-4735-A1BF-3D7AAB10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5833B-E81C-4BA6-8781-B7123480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6E690-FFF4-45F5-9132-4ABB3B3A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75F15-7791-45FA-AEF8-FB28D78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F78F9-C654-4164-8D0F-25AFE2E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151F9-3B17-48D2-9F4E-AAF5940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F77C4-80C0-40BC-9643-A705BDE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70C2E-26A7-4684-98FD-A4428A86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79BB2-7D6D-4DC4-9BA1-C50D583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C0EAC-40C7-4791-8E95-182C8C4E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1E39E-FF90-4398-9B6F-451225D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C1EA9B-1199-45C3-98DB-87190D8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83B26-E8C8-4F65-95D8-681E1AE4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9B5EE-A686-4437-9107-6264CDD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14D66-DD43-461D-9354-3B6E7E1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6E71D-AF94-4AF9-8EF0-EE7CB2E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4DDC8-A618-48CF-BB8E-B9E0942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9B8F4-6442-4780-B0DD-0027188B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45BBE-1A15-4D09-87DD-10E6FC02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53208-77D4-449E-A4C0-DA4F9832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56C25-906F-4A24-9386-FE39B699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D0C0E-7CA8-48D7-B1C0-93DBAB6D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A10B5-E582-4F1A-8322-D0A64095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E5D0C-FEC9-429F-9A45-D31E273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80836-1149-4212-8076-065F4FD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CD749-2DC3-4A65-9E4C-0C4170B2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CCB8D-DA00-404F-BC56-9FE97F0B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94640-AC23-4F22-B27B-141D6A57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FFF6F-994C-4D64-B856-C539446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6F98B-7F85-4FCF-A6CB-681289F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963FE-BAE1-4A33-B4E2-225164C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1C339-F774-41E5-83AA-ABAC938C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62F53-F22B-4169-87F4-66FA9050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83A89-C859-4595-A229-17BF6404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723EC-7282-4EEF-8C81-72F3DB9D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EBF1F-4BA9-435F-BB63-BEDC336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92003-15DE-4CFF-8A24-A26668CF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C51A7-6181-41B4-99F0-F201FA7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6C340-A4C7-42B3-A75C-53A68BA9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AAC90-80C1-4270-B399-454A0C3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C262BE-504C-4336-AF23-DC1E105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D5801-CFC9-4451-B060-1A204A5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59199-D446-4646-9C50-A5F255C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799B0-2062-4ECC-8ACF-B813EDE1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3D1FC-FA13-4B2C-BCC6-B813D525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EF1DE0-B868-4CC0-B651-BFAFD270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00437-ED38-4E42-97D6-5A0219EF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E62B1-EFFA-4CC1-9466-7B7BCC4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8183F-8A37-4A92-B45B-29978AF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CF7D6C-3A12-4F7A-AA0D-AC67D2E4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35280" y="11556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E4BB7-297A-4D20-B357-0272947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2B4B2A-0D36-4B21-BF46-3EC4D1D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00CDD-5F69-4494-9F7C-0FC3EB0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E6BC2-4C7D-447C-8801-4719DB0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A4CCF-0D35-4946-AD87-1B54266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93A5F-95C5-4E51-979D-C29BABF7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DA0A1-48E5-48B8-8AC7-B787BC2F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DE385-6E67-4C26-A58C-DA70BC4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E7094D-6DC1-4761-84D4-5EE51CB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4E6EF5-0FA0-443E-BD71-CC0541CB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100" spc="-1" strike="noStrike">
                <a:solidFill>
                  <a:srgbClr val="ff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ff0000"/>
                </a:solidFill>
                <a:latin typeface="Tahoma"/>
                <a:ea typeface="Tahoma"/>
              </a:rPr>
              <a:t>David Zaruk  -  Risk Perception Management  -  Groenstraat 17, 1930 Zaventem  -  david.zaruk@riskperception.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4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383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1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C87C-5BA8-4F29-97C8-90098D5D39EC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426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4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496-3245-4F9A-AC76-DBCCAB4192CF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42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628560" tIns="-456840" bIns="-82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08000" y="5661000"/>
            <a:ext cx="61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85" name="Rectangle 6"/>
          <p:cNvSpPr/>
          <p:nvPr/>
        </p:nvSpPr>
        <p:spPr>
          <a:xfrm>
            <a:off x="324000" y="6551640"/>
            <a:ext cx="849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ff0000"/>
                </a:solidFill>
                <a:latin typeface="Tahoma"/>
                <a:ea typeface="Tahoma"/>
              </a:rPr>
              <a:t>David Zaruk  -  Risk Perception Management bvba  -  Groenstraat 17, 1930 Zaventem, Belgium  -  david.zaruk@riskperception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125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3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DC6D-3AB7-40F1-A1C5-72572BA1BC89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6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936-D0B5-4E59-A453-B534289096E0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9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259-7605-483E-AC5B-8CD798ACA93E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2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536-EB29-4B5A-9DAF-A20205251965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5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BB24-E7A3-4D40-A606-60327E9A0803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RP logo"/>
          <p:cNvPicPr/>
          <p:nvPr/>
        </p:nvPicPr>
        <p:blipFill>
          <a:blip r:embed="rId2"/>
          <a:stretch/>
        </p:blipFill>
        <p:spPr>
          <a:xfrm>
            <a:off x="108000" y="115920"/>
            <a:ext cx="1773360" cy="792000"/>
          </a:xfrm>
          <a:prstGeom prst="rect">
            <a:avLst/>
          </a:prstGeom>
          <a:ln w="0">
            <a:noFill/>
          </a:ln>
        </p:spPr>
      </p:pic>
      <p:cxnSp>
        <p:nvCxnSpPr>
          <p:cNvPr id="340" name="Straight Arrow Connector 8"/>
          <p:cNvCxnSpPr/>
          <p:nvPr/>
        </p:nvCxnSpPr>
        <p:spPr>
          <a:xfrm>
            <a:off x="108000" y="1341000"/>
            <a:ext cx="8641440" cy="1080"/>
          </a:xfrm>
          <a:prstGeom prst="straightConnector1">
            <a:avLst/>
          </a:prstGeom>
          <a:ln w="108000">
            <a:solidFill>
              <a:srgbClr val="ff0000"/>
            </a:solidFill>
            <a:miter/>
          </a:ln>
        </p:spPr>
      </p:cxn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179280" y="6589440"/>
            <a:ext cx="878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16C7-AFBE-4F36-8341-C814AA875EEF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isk-monger.com/" TargetMode="External"/><Relationship Id="rId2" Type="http://schemas.openxmlformats.org/officeDocument/2006/relationships/hyperlink" Target="mailto:david.zaruk@riskperception.eu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Bảo vệ t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ực vật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 và tự tin truyền thô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2340000" y="501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avid Zaru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Giáo sư, Đại học Odise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Tổ chức Risk-Monger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www.risk-monger.c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Một số câu hỏi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ông chúng có tin tưởng các loại thuốc BVTV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ại sao khô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ềm tin này có đang suy giả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ấn đề này có thể giải quyết khô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Đối tượng nào nên truyền thông về thuốc BVTV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Đã có CQ nào xây dựng sổ tay hướng dẫn truyền thông tới công chúng về thuốc BVTV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ttps://european-seed.com/2018/04/risk-corner-ten-rules-communicating-pesticides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Quá trình 10 bướ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nguyên tắc truyền thông về thuốc BVT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hông bỏ qua các lo lắng, hoảng sợ và mối quan tâm của người dâ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ổ chức lễ mừng các thành tựu: năng suất cao hơn, thu hoạch tốt hơn, sử dụng ít lao động hơ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hiến người dân hiểu rõ rằng vấn đề ATTP không nằm ở nguồn thuốc thuốc BVTV là tự nhiên hay tổng hợ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ử dụng các thuật ngữ chính xác khi có thể: thuốc trừ sâu, thuốc diệt cỏ, thuốc diệt nấ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ứng minh nguyên nhân nông dân sử dụng thuốc sâu (lợi ích) chỉ khi cần thiế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Quá trình 10 bướ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nguyên tắc truyền thông về thuốc BVT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ới thiệu thuốc BVTV là một công cụ của bà con nông dân được sử dụng khi phải đối mặt với khó khă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ỉ ra xu hướng trong 50 năm qua đã giúp giảm thiểu liều dùng và ứng dụng các công nghệ tiên tiến hơ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ình diễn trực quan các nghiên cứu về mức sử dụng phù hợ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ấm sử dụng các chất có độc tín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úp người dân tự tìm hiểu thông t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Cảm ơ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285264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vid Zar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iáo sư, Đại học Odi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ổ chức Risk-Mong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www.risk-mong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david.zaruk@riskperception.e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witter: @zaru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4T23:39:06Z</dcterms:created>
  <dc:creator>David Zaruk</dc:creator>
  <dc:description/>
  <dc:language>en-US</dc:language>
  <cp:lastModifiedBy>giang vu</cp:lastModifiedBy>
  <dcterms:modified xsi:type="dcterms:W3CDTF">2018-11-26T02:39:35Z</dcterms:modified>
  <cp:revision>35</cp:revision>
  <dc:subject/>
  <dc:title>Slide 1</dc:title>
</cp:coreProperties>
</file>